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81.png" ContentType="image/png"/>
  <Override PartName="/ppt/media/image16.png" ContentType="image/png"/>
  <Override PartName="/ppt/media/image2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00480" y="614664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8610480"/>
          <a:ext cx="6858000" cy="7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610480"/>
                    <a:ext cx="6858000" cy="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4573440" y="8815320"/>
            <a:ext cx="2229120" cy="238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6858000" cy="74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517760" y="119160"/>
            <a:ext cx="3587760" cy="24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6858000" cy="746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47920" y="152280"/>
            <a:ext cx="4038480" cy="304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06</a:t>
            </a:r>
            <a:r>
              <a:rPr b="1" lang="zh-CN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년 우편 기표지 프린터</a:t>
            </a:r>
            <a:r>
              <a:rPr b="1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(Z110Xi3P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0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0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2.png"/><Relationship Id="rId3" Type="http://schemas.openxmlformats.org/officeDocument/2006/relationships/image" Target="../media/image72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3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610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3276720"/>
            <a:ext cx="5754960" cy="1373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06 </a:t>
            </a:r>
            <a:r>
              <a:rPr b="1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우편 기표지 프린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Zebra Xi III Plus Printer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용자 </a:t>
            </a:r>
            <a:r>
              <a:rPr b="1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GUIDE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1200" y="781200"/>
            <a:ext cx="19058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. SELF TEST MODE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557280" y="1415880"/>
            <a:ext cx="5749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FEED KEY SELT TEST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본 테스트는 장비의 전원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FF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후 전면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EED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른 상태에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원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시키고 약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~ 7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초간 누르고 있으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 그림과 같이 장비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EED KEY TEST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발행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테스트는 장비의 인쇄 속도와 인쇄 농도에 따른 인쇄 품질을 보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줍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14520" y="2286000"/>
            <a:ext cx="40384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1200" y="781200"/>
            <a:ext cx="19058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. SELF TEST MODE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8840" y="1415880"/>
            <a:ext cx="57312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PAUSE KEY SELT TEST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본 테스트는 장비의 전원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FF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후 전면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AUSE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른 상태에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원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시키고 약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~ 7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초간 누르고 있으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 그림과 같이 장비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EAD TEST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발행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테스트는 장비의 현재 헤드 상태를 확인 할 수 있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720" y="2581200"/>
            <a:ext cx="6021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3360" y="1258920"/>
            <a:ext cx="2444760" cy="7132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3040" y="781200"/>
            <a:ext cx="1485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7. LCD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고 매세지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2708280" y="1908000"/>
            <a:ext cx="41497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PAPER OUT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일반 적으로 종이가 떨어질 경우 표시가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RROR, PAPER OUT,PAUSE L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 주황색 불이 들어 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라벨을 다시 공급 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AUSE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PRINTR READ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 정상적으로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99120" y="2835360"/>
            <a:ext cx="1657080" cy="581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05040" y="3460680"/>
            <a:ext cx="41497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RIBBON OUT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일반 적으로 리본이 떨어질 경우 표시가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RROR,CHECK RIBBON,PAUSE L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 주황색 불이 들어 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리본을 다시 공급 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AUSE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PRINTR READ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 정상적으로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92640" y="4437000"/>
            <a:ext cx="1619280" cy="571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11520" y="5121360"/>
            <a:ext cx="431784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HEAD OPEN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일반 적으로 프린터 헤드가 열려 있을 때 표시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RROR,PAUSE LED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 주황색 불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들어 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헤드오픈 레버를 닫은 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AUSE KEY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르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PRINTR READY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 정상적으로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356000" y="6215040"/>
            <a:ext cx="158112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08280" y="6897600"/>
            <a:ext cx="43178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HEAD COOL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평상시에는 잘 발생 되지 않으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겨울이나 주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환경이 많이 추울 경우 발생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RROR LED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만 주황색 불이 들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장비 사용에는 문제가 없으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가 예열이 될 때까지 인쇄 품질이 떨어 질 수 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 예열이 끝나면 자동적으로 없어 집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12280" y="1600200"/>
            <a:ext cx="374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장애 발생 시 조치 사항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224000" y="3319560"/>
            <a:ext cx="2390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 PAPER 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. RIBBON 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. HEAD OPE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. HEAD COL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. HEAD HO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0960" y="781200"/>
            <a:ext cx="1413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PAPER OUT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2400" y="1282680"/>
            <a:ext cx="1577880" cy="444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89080" y="1754280"/>
            <a:ext cx="1217520" cy="426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819000" y="330192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265400" y="31384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65000" y="40878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268640" y="3962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36640" y="362736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1266840" y="35179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2240640" y="11984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요인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613960" y="1511280"/>
            <a:ext cx="372060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감지센서 사이로 용지가 삽입이 정확하게 안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용지가 센서 사이로 삽입이 되었더라도 감지 부위에서 벗어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가이드를 올바르게 고정 하지 않아서 센서의 감지 범위를 벗어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감지센서 타입의 설정이 용지와 다르게 설정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용지 타입의 설정이 현재의 용지와 다르게 설정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감지 센서에 이물질이 묻어 센서가 제대로 감지를 하지 못하는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 밖의 감지 못하는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298600" y="368316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 해소 방안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553840" y="4043520"/>
            <a:ext cx="36550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감지센서 사이로 용지가 삽입이 정확하게 안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앞장에서 설명한 라벨 설치 방법을 다시 확인 후 라벨을 다시 삽입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하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용지가 센서 사이로 삽입이 되었더라도 감지 부위에서 벗어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센서의 위치가 라벨을 감지하는 위치에 있지 않으므로 센서의 위치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확인 후 변경 하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센서위치 변경 방법은 윗 센서를 십자 드라이버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푼 후 라벨이 있는 위치로 이동 시킨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좌우로 이동이 가능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동을 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킨 후 다시 십자 드라이버로 고정 시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음은 아래센서를 위 센서 위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와  동일한 위치로 변경 한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 그림을 참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73160" y="6039000"/>
            <a:ext cx="3111480" cy="2280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789360" y="6516720"/>
            <a:ext cx="2376360" cy="1299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5373720" y="6156360"/>
            <a:ext cx="503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053040" y="6012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센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960" y="781200"/>
            <a:ext cx="1413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PAPER OUT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2298600" y="12589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 해소 방안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2615760" y="1628640"/>
            <a:ext cx="36871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가이드를 올바르게 고정하지 않아서 센서의 감지 범위를 벗어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가이드를 용지의 폭에 맞게 이동 후 고정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49640" y="2284560"/>
            <a:ext cx="4051080" cy="1844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>
            <a:off x="4437000" y="223524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5236920" y="208296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고정 가이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2179440" y="4191120"/>
            <a:ext cx="46008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감지 센서 타입의 설정이 현재의 용지 설정과 틀린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보통의 라벨의 경우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sor Type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SENSOR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되어 있어야 하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RK SENSOR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ting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 MODE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들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서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SOR TYPE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을 변경한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변경 방법은 전면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른 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여러 번 누르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보면 아래 그림과 같이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SOR TYPE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는 항목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GHT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FT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눌러 변경 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 KEY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 설정이 변경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363760" y="5630760"/>
            <a:ext cx="1657440" cy="771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27960" y="6370560"/>
            <a:ext cx="48488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용지의 타입의 현재의 용지와 다르게 설정과 틀린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보통의 라벨의 경우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 Type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N-CONTINUOUS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되어 있어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하나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TINUOUS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ting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 MODE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들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서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 Type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을 변경한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변경 방법은 전면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른 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여러 번 누르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보면 아래 그림과 같이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 TYPE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는 항목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GHT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FT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눌러 변경 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 KEY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 설정이 변경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421000" y="784080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22400" y="1282680"/>
            <a:ext cx="1962000" cy="5521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89080" y="1830240"/>
            <a:ext cx="1555560" cy="546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942840" y="38829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389240" y="3719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88840" y="48402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392480" y="47149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960480" y="4274640"/>
            <a:ext cx="431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390680" y="41655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0960" y="781200"/>
            <a:ext cx="1413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PAPER OUT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298600" y="135108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 해소 방안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550240" y="1711440"/>
            <a:ext cx="35848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감지센서에 이물질이 묻어 센서가 제대로 감지 못하는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 에는 센서 주위에 묻은 이물질을 제거 한 후 다시 라벨을 삽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시켜야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물질이 제거 하기 힘든 경우에는 기술자에게 연락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해서 조치 해야 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물질 제거 방법은 아래 그림의 센서 주변에 묻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있는 먼지나 스티커 라벨을 알코올을 사용하여 깨끗하게 제거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368440" y="2870280"/>
            <a:ext cx="3111480" cy="2281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635280" y="5462640"/>
            <a:ext cx="2376720" cy="129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H="1">
            <a:off x="5219640" y="5006880"/>
            <a:ext cx="503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5899320" y="48625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센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2598840" y="7104240"/>
            <a:ext cx="36064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 밖의 감지 못하는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 에는 사용자가 판단을 하여 현장에서 즉각 조치한 경우 사용자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대처를 하면 되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 것이 되지 않을 경우 유선상으로 기술자와 통화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것 또한 되지 않는 경우는 기술자가 현장을 방문하여 처리 해야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22400" y="1282680"/>
            <a:ext cx="1962000" cy="5521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89080" y="1830240"/>
            <a:ext cx="1555560" cy="546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942840" y="38829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389240" y="3719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88840" y="48402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1392480" y="47149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960480" y="4274640"/>
            <a:ext cx="431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390680" y="41655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3240" y="781200"/>
            <a:ext cx="1564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RIBBON OUT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2400" y="1282680"/>
            <a:ext cx="1987560" cy="5594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692280" y="3778200"/>
            <a:ext cx="55872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265400" y="3614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65000" y="4878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268640" y="47530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65000" y="4199040"/>
            <a:ext cx="50328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1266840" y="408924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60280" y="1797120"/>
            <a:ext cx="1619280" cy="590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98600" y="12589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 해소 방안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2163240" y="1612800"/>
            <a:ext cx="448740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리본 사용 유무의 설정이 잘못된 경우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리본을 사용하지 않는 경우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INT METHOD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는 항목이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RECT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HERMAL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있어야 하는데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HERMAL-TRANS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설정이 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때에는 설정 값을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RECT THERMAL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변경을 해야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변경 방법은 전면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른 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여러 번 누르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보면 아래 그림과 같이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INT METHOD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는 항목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GHT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FT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눌러 변경 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 KEY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 설정이 변경 됩니다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219480" y="3116160"/>
            <a:ext cx="16477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2680" y="781200"/>
            <a:ext cx="14623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HEAD OPEN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2400" y="1282680"/>
            <a:ext cx="1987560" cy="5594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692280" y="3778200"/>
            <a:ext cx="55872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1265400" y="3614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65000" y="4878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268640" y="47530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240640" y="11984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요인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205000" y="1511280"/>
            <a:ext cx="237672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헤드오픈 레버가 닫아지지 않은 경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헤드오픈 센서가 손상된 경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헤드오픈 센서 가림막이 손상된 경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 밖의 경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298600" y="277164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 해소 방안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2311560" y="3125880"/>
            <a:ext cx="27694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오픈 레버가 닫아지지 않은 경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 오픈 레버를 아래쪽으로 끝까지 내려 준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 그림을 참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079720" y="3994200"/>
            <a:ext cx="3527280" cy="305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74000" y="7416720"/>
            <a:ext cx="3609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2,3,4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의 경우에는 현장에서 사용자가 처리가 불가능 하므로 기술자에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연락을 하여 장비를 직접 수리를 해야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98440" y="1816200"/>
            <a:ext cx="15717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8800" y="781200"/>
            <a:ext cx="14623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4. HEAD COOL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2400" y="1282680"/>
            <a:ext cx="1987560" cy="5594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V="1">
            <a:off x="692280" y="3778200"/>
            <a:ext cx="55872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3614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2240640" y="16462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요인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507400" y="1959120"/>
            <a:ext cx="35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겨울에 자주 발생이 되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겨울이 아니라도 주위의 환경이 추운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 밖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EAD COLD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04920" y="1806480"/>
            <a:ext cx="1590480" cy="590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36840" y="206064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EAD C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300024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 해소 방안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2598480" y="3354480"/>
            <a:ext cx="384372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주위의 환경이 추운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먼저 겨울이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주위 화경이 추운 겨울에 장비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FF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하거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장비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오랫동안 사용하지 않고 있으면 나타나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에는 장비를 사용 하는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문제가 없으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가 예열이 되지 않아서 인쇄 품질이 떨어 질 수 있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것은 장비를 사용 하시다 보면 저절로 에러가 없어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에러는 발생이 되더라도 인쇄를 할 수 있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2651040" y="4687920"/>
            <a:ext cx="37162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 밖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EAD COLD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름이면서 주위의 환경이 따뜻한데도 지속적으로 이러한 메시지가 나오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장비의 헤드온도 감지 센서가 불량 하거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메인보드가 이상이 생길 수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있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 에는 현장에서 조치가 불가능 하므로 기술자와 통화를 해야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1200" y="1600200"/>
            <a:ext cx="63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. Zebra Barcode Printer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기본 사항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096920" y="3643200"/>
            <a:ext cx="51660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외부 명칭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라벨 설치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외부 명칭 및 기능 설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DATA,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전원 케이블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. LCD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표시부 설명 및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KEY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설명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본사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SETUP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. SELF TEST MODE (CANCLE , FEED , PAUS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. LCD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고 매세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3040" y="781200"/>
            <a:ext cx="1346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. HEAD HOT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2400" y="1282680"/>
            <a:ext cx="1987560" cy="5594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692280" y="3778200"/>
            <a:ext cx="55872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1265400" y="3614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2240640" y="16462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요인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2436120" y="1959120"/>
            <a:ext cx="318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장비를 장시간 사용 할 경우 헤드에 열이 많이 발생 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 밖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EAD HOT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04920" y="1806480"/>
            <a:ext cx="1590480" cy="590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31800" y="206064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EAD HO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2298600" y="300024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장애 해소 방안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2649960" y="3354480"/>
            <a:ext cx="3787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장비를 장시간 사용해서 헤드에 열이 많이 발생 된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먼저 이 경우에는 장비의 헤드의 손상을 방지 하기 위해서 장비가 자동적으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AUSE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RROR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 점등이 되면서 장비가 정지 된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장비가 정지된 후 일정 시간이 지나면 에러 메시지가 없어진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635920" y="4687920"/>
            <a:ext cx="37465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 밖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EAD HOT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일정시간이 지나도록 장비를 정지 했으나 지속적으로 이러한 메시지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나오면 장비의 헤드온도 감지 센서가 불량 하거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메인보드가 이상이 생길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수가  있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경우 에는 현장에서 조치가 불가능 하므로 기술자와 통화를 해야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89040" y="4775040"/>
            <a:ext cx="55872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1338480" y="4611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점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95880" y="1600200"/>
            <a:ext cx="35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유지보수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1976400" y="3319560"/>
            <a:ext cx="24001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헤드 청소 요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롤러 청소 요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헤드 어셈블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5000" y="2419200"/>
            <a:ext cx="5410440" cy="3724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29840" y="781200"/>
            <a:ext cx="15642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헤드 청소 요령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962280" y="1332000"/>
            <a:ext cx="497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* Printer Head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 이물질로 인하여 오염이 되면 인쇄 품질이 저하되는 근본적인 원인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인쇄 시 읽을 수 없는 상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용지 배출 시에 라벨이 프린트 헤드 표면에 접착제로 인하여 용지 배출이 안 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경우 또는 프린터헤드의 최적의 상태 유지를 위하여 아래와 같은 절차대로 프린트헤드를 관리 하여 주시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바랍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125360" y="2340000"/>
            <a:ext cx="432000" cy="719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1586160" y="21574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면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075280" y="305928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린터 헤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896760" y="6367320"/>
            <a:ext cx="4446720" cy="20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원을 끄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플러그를 분리 하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림과 같이 프린터 헤드 레버를 위로 올립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부드러운 천이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림과 같이 면봉을 사용 하여 먼지 및 이물질을 제거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알코올을 면봉에 적시어 프린터 헤드의 표면을 깨끗이 닦아 줍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시 전원을 켜고 장비를 사용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주의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평상시 또는 청소 도중에 프린트 헤드의 표면이 날카로운 물질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     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손상이 가지 않도록 각별히 주의 하시길 바랍니다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29840" y="781200"/>
            <a:ext cx="15642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롤러 청소 요령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962280" y="1332000"/>
            <a:ext cx="497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린터 롤러가 이물질로 인하여 오염이 되면 인쇄 품질이 저하되는 근본적인 원인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인쇄 시 읽을 수 없는 상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용지 배출 시에 라벨이 프린트 롤러 표면에 접착제로 인하여 용지 배출이 안 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경우 또는 롤러에 말려 들어가는 경우가 발생이 하므로  최적의 상태 유지를 위해서 아래와 같은 절차대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린터 롤러를 관리 하시길 바랍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65000" y="2419200"/>
            <a:ext cx="5410440" cy="3724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1125360" y="2340000"/>
            <a:ext cx="432000" cy="719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1586160" y="21574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면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075280" y="305928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린터 헤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2084400" y="597384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린터 롤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960840" y="6377040"/>
            <a:ext cx="4844160" cy="20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원을 끄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플러그를 분리 하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림과 같이 프린터 헤드 레버를 위로 올립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부드러운 천이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그림과 같이 면봉을 사용 하여 먼지 및 이물질을 제거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알코올을 부드러운 천에 적시어 프린터 롤러의 표면을 깨끗이 닦아 줍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시 전원을 켜고 장비를 사용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주의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평상시 롤러에 라벨이 말려 들어갈 경우 칼로 라벨을 제거 하지 마세요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     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칼로 롤러가 손상이 되는 경우 인쇄 품질 저하의 원인이 됩니다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23360" y="781200"/>
            <a:ext cx="15184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헤드 어셈블리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885960" y="7758000"/>
            <a:ext cx="5025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주의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이 부분은 프린터의 인쇄 품질과 직접적인 연관이 있는 부품들이므로 임의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     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개조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/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조정 할 경우에는 인쇄 품질이 저하될 수 있습니다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367080" y="1644480"/>
            <a:ext cx="3343320" cy="3114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2680" y="1800360"/>
            <a:ext cx="3429000" cy="2647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1700280" y="4998960"/>
            <a:ext cx="38876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02200" y="1600200"/>
            <a:ext cx="38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통합 드라이버 설정 방법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1805760" y="3319560"/>
            <a:ext cx="33602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드라이버 다운로드 및 복사 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드라이버 설치 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드라이버 속성 설정 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74280" y="781200"/>
            <a:ext cx="2356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다운로드 및 복사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303120" y="1187280"/>
            <a:ext cx="60786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음은 웹사이트에 접속해  프린터 드라이버 다운로드를 하는 방법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100" spc="-1" strike="noStrike">
                <a:solidFill>
                  <a:srgbClr val="0000cc"/>
                </a:solidFill>
                <a:latin typeface="굴림"/>
              </a:rPr>
              <a:t>http://www.seagullscientific.com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 접속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음과 같은 홈페이지가 나오면                         버튼을 누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49360" y="2195640"/>
            <a:ext cx="5616360" cy="4238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449440" y="1847880"/>
            <a:ext cx="866880" cy="2095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1844640" y="2050920"/>
            <a:ext cx="936720" cy="1584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74280" y="781200"/>
            <a:ext cx="2356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다운로드 및 복사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260280" y="1258920"/>
            <a:ext cx="607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들어가기 버튼으로 들어오면 왼쪽에 보이는 메뉴에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inter Drivers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들어가 하위 메뉴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ownload a Drivers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선택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5920" y="1835280"/>
            <a:ext cx="5922720" cy="380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flipH="1">
            <a:off x="1413000" y="1476360"/>
            <a:ext cx="2736720" cy="1943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907920" y="1692360"/>
            <a:ext cx="144720" cy="2663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476280" y="4356000"/>
            <a:ext cx="1008000" cy="216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60280" y="1258920"/>
            <a:ext cx="607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ownload a Drivers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들어오면 다음과 같이 </a:t>
            </a:r>
            <a:r>
              <a:rPr b="1" i="1" lang="zh-CN" sz="1000" spc="-1" strike="noStrike">
                <a:solidFill>
                  <a:srgbClr val="000000"/>
                </a:solidFill>
                <a:latin typeface="굴림"/>
              </a:rPr>
              <a:t>레이블 프린터 드라이버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가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674280" y="781200"/>
            <a:ext cx="2356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다운로드 및 복사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260280" y="5364000"/>
            <a:ext cx="607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i="1" lang="ko-KR" sz="1000" spc="-1" strike="noStrike">
                <a:solidFill>
                  <a:srgbClr val="000000"/>
                </a:solidFill>
                <a:latin typeface="굴림"/>
              </a:rPr>
              <a:t>레이블 프린터 드라이버 다운로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제목이 나오면 마우스의 스크롤을 아래쪽으로 계속 내리다 보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린터 제품군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Zebr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린터 드라이버를 다운로드 할 수 있는 화면이 보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Zebr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누르고 다운로드 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20640" y="6014880"/>
            <a:ext cx="5113440" cy="2157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932120" y="7824960"/>
            <a:ext cx="393480" cy="23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92280" y="5867280"/>
            <a:ext cx="1224000" cy="1998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20640" y="1627200"/>
            <a:ext cx="5068800" cy="3376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flipH="1">
            <a:off x="4076640" y="1476360"/>
            <a:ext cx="504720" cy="934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13000" y="1692360"/>
            <a:ext cx="3384360" cy="1958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55600" y="1312920"/>
            <a:ext cx="607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파일 이름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Zebra~~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시작하는지 확인 후 저장 버튼을 누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1268280" y="1547640"/>
            <a:ext cx="1368720" cy="792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997000" y="1547640"/>
            <a:ext cx="215640" cy="1656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674280" y="781200"/>
            <a:ext cx="2356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다운로드 및 복사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052640" y="4859280"/>
            <a:ext cx="4708440" cy="23176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60280" y="4211640"/>
            <a:ext cx="607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8. 7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에서 저장 버튼을 누르면 다음 “다른 이름으로 저장”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용자가 저장하고 싶은 곳에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AGULL Zebr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드라이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ex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저장하여 다운로드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4221000" y="4572000"/>
            <a:ext cx="1152720" cy="2160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924280" y="4572000"/>
            <a:ext cx="288720" cy="2160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5320" y="781200"/>
            <a:ext cx="1305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외부 명칭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95360" y="1984320"/>
            <a:ext cx="4205520" cy="3143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62120" y="17622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2046240" y="16286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외장커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291636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56560" y="2782800"/>
            <a:ext cx="7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D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표시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076640" y="270000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697280" y="2556000"/>
            <a:ext cx="70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공급 허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716280" y="464328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750560" y="507672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공급슬롯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하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357720" y="2195640"/>
            <a:ext cx="1223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816440" y="2050920"/>
            <a:ext cx="70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리본 공급 허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924280" y="1834920"/>
            <a:ext cx="1657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827240" y="169236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리본 되감기 허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857240" y="2830680"/>
            <a:ext cx="1656000" cy="158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82640" y="5630760"/>
            <a:ext cx="3960720" cy="2676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2095200" y="4398840"/>
            <a:ext cx="431640" cy="122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74280" y="781200"/>
            <a:ext cx="2356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다운로드 및 복사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341360" y="2124000"/>
            <a:ext cx="4143600" cy="2457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0280" y="1403280"/>
            <a:ext cx="607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9. 8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에서 저장 버튼을 누르면 웹에서 파일을 다운로드하는 진행사항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52640" y="1600200"/>
            <a:ext cx="1440000" cy="1584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1413000" y="3203640"/>
            <a:ext cx="3095640" cy="28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997360" y="1619280"/>
            <a:ext cx="1295280" cy="431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1341360" y="2050920"/>
            <a:ext cx="1656000" cy="360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347840" y="5508720"/>
            <a:ext cx="4143240" cy="2457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98440" y="5003640"/>
            <a:ext cx="607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완료되면 다음과 같은 화면이 나오고 닫기를 누르면 웹사이트에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AGULL Zebr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드라이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ex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운로드가 완료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781360" y="5219640"/>
            <a:ext cx="2016000" cy="2448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817560" y="5402160"/>
            <a:ext cx="1297080" cy="576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276280" y="5219640"/>
            <a:ext cx="2665080" cy="1297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91400" y="781200"/>
            <a:ext cx="17319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설치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537120" y="1187280"/>
            <a:ext cx="45518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린터 드라이버 다운로드 및 복사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AGULL Zebr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드라이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ex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실행 하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아래 항목의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 accept the ~~~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선택 후 다음 버튼을 누르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433520" y="2004840"/>
            <a:ext cx="3887640" cy="2889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flipH="1">
            <a:off x="1916280" y="1908000"/>
            <a:ext cx="217440" cy="23893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789360" y="1908000"/>
            <a:ext cx="287280" cy="27496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2960" y="4950000"/>
            <a:ext cx="41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2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을 항목을 실행 하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특이 사항이 아니면 기본적으로 설정되어 있는 경로로 프로그램을 설치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경로가 맞으면 다음 버튼을 누르세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417680" y="5600880"/>
            <a:ext cx="3882960" cy="28843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flipH="1">
            <a:off x="2781360" y="5219640"/>
            <a:ext cx="433440" cy="1513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1557360" y="5508720"/>
            <a:ext cx="2448000" cy="2736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91400" y="781200"/>
            <a:ext cx="17319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설치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689760" y="1235160"/>
            <a:ext cx="35672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3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아래 항목의 체크 사항을  해제 시킨 후 마침 버튼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97160" y="1730520"/>
            <a:ext cx="3779640" cy="2809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474920" y="2968560"/>
            <a:ext cx="360360" cy="36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628640" y="1618920"/>
            <a:ext cx="287640" cy="1368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499920" y="1619280"/>
            <a:ext cx="505080" cy="2665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332000" y="5221440"/>
            <a:ext cx="4025880" cy="32954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11960" y="4645080"/>
            <a:ext cx="496836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위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까지 실행을 한 후 프린터 및 팩스에 들어가서 프린터 추가를 누르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다음 버튼을 누르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1700280" y="6122880"/>
            <a:ext cx="3313080" cy="2046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H="1" flipV="1">
            <a:off x="1197000" y="5003280"/>
            <a:ext cx="2952720" cy="2953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91400" y="781200"/>
            <a:ext cx="17319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설치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32960" y="1235160"/>
            <a:ext cx="3777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. 5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“이 컴퓨터에 연결된 로컬 프린터”를 선택 후 다음 버튼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052640" y="1725480"/>
            <a:ext cx="4608360" cy="28465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1484280" y="1619280"/>
            <a:ext cx="360360" cy="1008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715920" y="1619280"/>
            <a:ext cx="576360" cy="2665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52640" y="5524560"/>
            <a:ext cx="4608360" cy="2847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59520" y="4946760"/>
            <a:ext cx="41385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. 6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“다음 포트 사용” 과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USB001 ~~~ “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선택 후 다음 버튼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1628640" y="5292720"/>
            <a:ext cx="144720" cy="1224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2924280" y="5292720"/>
            <a:ext cx="504720" cy="1295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005000" y="5292360"/>
            <a:ext cx="360360" cy="2808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91400" y="781200"/>
            <a:ext cx="17319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설치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551880" y="1235160"/>
            <a:ext cx="512856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8. 7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제조업체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Zebra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와 프린터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Zebra 110Xi III Plus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선택 후 다음 버튼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68080" y="4859280"/>
            <a:ext cx="32533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9. 8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기본 프린터를 “예”로 선택 후 다음 버튼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920880" y="1639800"/>
            <a:ext cx="5016240" cy="30988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flipV="1">
            <a:off x="1341360" y="1618920"/>
            <a:ext cx="503280" cy="20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3357720" y="1619280"/>
            <a:ext cx="287280" cy="1998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508640" y="1618920"/>
            <a:ext cx="215640" cy="2809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947880" y="5315040"/>
            <a:ext cx="5113080" cy="3159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 flipV="1">
            <a:off x="1700280" y="5264280"/>
            <a:ext cx="288720" cy="1728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2923920" y="5263920"/>
            <a:ext cx="1584360" cy="2881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91400" y="781200"/>
            <a:ext cx="17319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설치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445320" y="1235160"/>
            <a:ext cx="30013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0. 9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공유 안 함 선택 후 다음 버튼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739880"/>
            <a:ext cx="4392360" cy="2712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H="1" flipV="1">
            <a:off x="1267920" y="1666800"/>
            <a:ext cx="360360" cy="1152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2349360" y="1666440"/>
            <a:ext cx="1943280" cy="2521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442800" y="4643280"/>
            <a:ext cx="307296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1. 10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아니오 를 선택 후 다음 버튼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806400" y="5210280"/>
            <a:ext cx="5111640" cy="31575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flipH="1" flipV="1">
            <a:off x="1268280" y="5003640"/>
            <a:ext cx="433440" cy="1368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2276280" y="5003280"/>
            <a:ext cx="2160360" cy="3025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91400" y="781200"/>
            <a:ext cx="17319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설치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442800" y="1187280"/>
            <a:ext cx="307296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2. 1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마침 버튼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197000" y="1714680"/>
            <a:ext cx="4392720" cy="2712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flipH="1" flipV="1">
            <a:off x="1268280" y="1547640"/>
            <a:ext cx="3168720" cy="2665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268280" y="5564160"/>
            <a:ext cx="4391280" cy="27241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446040" y="4919760"/>
            <a:ext cx="307296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3. 12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계속 버튼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196640" y="5292360"/>
            <a:ext cx="2521080" cy="2808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29240" y="1195560"/>
            <a:ext cx="500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4. 13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번 항목을 실행 하고 나서 혹시 아래와 같은 화면이 나오면 “찾아보기”를 클릭 하고 아래의 경로를 설정 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ssxxeng.sbf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을 선택 “열기”를 누르고 다시 “확인” 을 클릭 하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3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번 항목을 실행 하고 아래와 같은 화면이 나오지 않으면 바로 다음 단계로 진행을 하세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491400" y="781200"/>
            <a:ext cx="17319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설치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370160" y="2044800"/>
            <a:ext cx="4752720" cy="1962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33360" y="4643280"/>
            <a:ext cx="6248520" cy="36482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 flipH="1" flipV="1">
            <a:off x="4292280" y="1332000"/>
            <a:ext cx="1297080" cy="2232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916280" y="1402920"/>
            <a:ext cx="4105080" cy="352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980640" y="1547640"/>
            <a:ext cx="792360" cy="3888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420640" y="1476000"/>
            <a:ext cx="3529080" cy="6335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715920" y="1547280"/>
            <a:ext cx="1800360" cy="1008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76320" y="1187280"/>
            <a:ext cx="48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5. 14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까지의 항목을 모두 실행 하면 프린터 드라이버 설치 하기는 완료가 되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 그림과 같이 프린터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드라이버가 설치가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491400" y="781200"/>
            <a:ext cx="17319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설치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76200" y="1763640"/>
            <a:ext cx="6192720" cy="4373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205000" y="3492360"/>
            <a:ext cx="2303640" cy="648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65920" y="781200"/>
            <a:ext cx="1990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속성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781200" y="1195560"/>
            <a:ext cx="524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린터 드라이브 폴더에 들어가서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Zebra 110Xi III Plus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마우스로 클릭을 한 후 오른쪽 마우스 버튼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 다음과 같은 화면이 나타나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속성을 선택하여 클릭 하세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160640" y="1635120"/>
            <a:ext cx="4284360" cy="34988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flipV="1">
            <a:off x="2492280" y="1331640"/>
            <a:ext cx="505080" cy="1152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852640" y="1547280"/>
            <a:ext cx="505080" cy="2016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441720" y="5184720"/>
            <a:ext cx="29296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인쇄기본 설정을 누르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579680" y="5608800"/>
            <a:ext cx="3460680" cy="28605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 flipH="1" flipV="1">
            <a:off x="1483920" y="5508360"/>
            <a:ext cx="1584360" cy="2376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1480" y="835200"/>
            <a:ext cx="1198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라벨 설치 방법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4320" y="1401840"/>
            <a:ext cx="6475320" cy="518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0840" y="6850080"/>
            <a:ext cx="430272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먼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Printhead leve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위로 올려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pe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음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Media 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라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표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위의 그림의 화살표 방향으로 용지를 투입 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용지를 투입하고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Media guide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고정 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Printhead lev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아래로 내려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los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마지막으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LCD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화면에 있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Pause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눌러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Printer Ready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65920" y="781200"/>
            <a:ext cx="1990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속성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1007640" y="1116000"/>
            <a:ext cx="47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번 항목을 실행 하고 페이지 설정을 선택을 하면 아래와 같은 화면이 나타나고 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굴림"/>
              </a:rPr>
              <a:t>새글꼴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버튼을 누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65000" y="1692360"/>
            <a:ext cx="5329440" cy="4403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557360" y="2627280"/>
            <a:ext cx="1152360" cy="289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349000" y="1332000"/>
            <a:ext cx="2808360" cy="1224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65920" y="781200"/>
            <a:ext cx="1990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속성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342720" y="1266840"/>
            <a:ext cx="591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3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번 항목에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Edit…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버튼을 누르면 다음과 같이 용지 크기를 설정하는 화면이 나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음 화면과 같이 설정 하여 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존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면식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신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면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름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datamax2”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너비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07.1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높이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68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너비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왼쪽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0,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오른쪽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용라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A,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용라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B :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름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labelb”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너비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07.1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높이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71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너비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왼쪽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0,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오른쪽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916280" y="2771640"/>
            <a:ext cx="3189240" cy="4104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708280" y="5292720"/>
            <a:ext cx="230508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2708280" y="5796000"/>
            <a:ext cx="720720" cy="64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4221000" y="5724360"/>
            <a:ext cx="720720" cy="64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65920" y="781200"/>
            <a:ext cx="1990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속성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333360" y="1258920"/>
            <a:ext cx="6264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용지 설정을 맞췄다면 인쇄 방향을 설정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라벨을 인쇄하기 위해선 인쇄 방향을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가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L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맞춰주세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방향 설정한 후 적용버튼과 확인버튼으로 인쇄 기본 설정을 맞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01800" y="2560680"/>
            <a:ext cx="5048280" cy="4172040"/>
            <a:chOff x="901800" y="2560680"/>
            <a:chExt cx="5048280" cy="417204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901800" y="2560680"/>
              <a:ext cx="5048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052720" y="4019760"/>
              <a:ext cx="649080" cy="16020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2720" y="4210200"/>
              <a:ext cx="649080" cy="16020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20640" y="1619280"/>
            <a:ext cx="287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204640" y="1835280"/>
            <a:ext cx="647640" cy="2449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65920" y="781200"/>
            <a:ext cx="1990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속성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333360" y="1258920"/>
            <a:ext cx="6264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린터 등록 정보 화면으로 돌아오면 고급을 눌러 다음과 같은 화면으로 넘어 갑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고급 인쇄 기능 사용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E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 체크 되어있는데 체크 된 경우 라벨이 선명해 지는 반면 출력 속도는 저하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체크된 부분을 다시한번 눌러 체크해지 하는 것을 권장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905040" y="2486160"/>
            <a:ext cx="5047920" cy="41716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019160" y="1951200"/>
            <a:ext cx="576360" cy="3384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636640" y="1476360"/>
            <a:ext cx="215640" cy="1295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65920" y="781200"/>
            <a:ext cx="1990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속성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333360" y="1258920"/>
            <a:ext cx="626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음은 바코드 글꼴을 등록 시키는 화면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글꼴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누르고 하위 버튼에서 글꼴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굴림"/>
              </a:rPr>
              <a:t>F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새바코드 글꼴…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선택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828720" y="2057400"/>
            <a:ext cx="5048280" cy="4314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765000" y="1619280"/>
            <a:ext cx="2583000" cy="798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3645000" y="1365120"/>
            <a:ext cx="576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2876400" y="341964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13" name=""/>
          <p:cNvCxnSpPr/>
          <p:nvPr/>
        </p:nvCxnSpPr>
        <p:spPr>
          <a:xfrm rot="5400000">
            <a:off x="2567880" y="2320560"/>
            <a:ext cx="2089800" cy="769320"/>
          </a:xfrm>
          <a:prstGeom prst="bentConnector2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981000" y="1692360"/>
            <a:ext cx="4896000" cy="4209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65920" y="781200"/>
            <a:ext cx="1990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속성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333360" y="1258920"/>
            <a:ext cx="626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1. 10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 항목을 실행하면 다음 바코드 글꼴이라는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700280" y="1476360"/>
            <a:ext cx="792000" cy="287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33360" y="1332000"/>
            <a:ext cx="626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2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의 바코드 글꼴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Code128A, Code128C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등록 시켜야 하는데 첫번재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ode128A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등록 하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화면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565920" y="781200"/>
            <a:ext cx="1990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속성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89000" y="1906560"/>
            <a:ext cx="640872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글꼴 이름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ode128A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여러 줄 조인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체크가 해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되있어야 하며 인코딩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서유럽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(ANSI 125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너비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더욱 좁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맞춰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주의 사항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글꼴 이름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(N)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에서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Code128A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로 설정하되 대소문자를 화면과 같이 똑같이 구분해줘야 하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띄어쓰기는 없게 설정하셔야 합니다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49360" y="2698920"/>
            <a:ext cx="4319640" cy="3455640"/>
            <a:chOff x="549360" y="2698920"/>
            <a:chExt cx="4319640" cy="345564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549360" y="2698920"/>
              <a:ext cx="431964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374120" y="3021840"/>
              <a:ext cx="3304440" cy="47304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29360" y="3724200"/>
              <a:ext cx="3074400" cy="70884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0280" y="4687200"/>
              <a:ext cx="1208520" cy="53820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923000" y="3562200"/>
            <a:ext cx="182088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호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ode 128A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맞추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크기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0.25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밀리미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방향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판독가능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없음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으로 맞춰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724280" y="3851280"/>
            <a:ext cx="217440" cy="71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692280" y="6227640"/>
            <a:ext cx="26654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UCC/EAN – 128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체크가 해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되어야 하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코드셋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맞춰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268280" y="5219280"/>
            <a:ext cx="0" cy="1079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1052640" y="2482920"/>
            <a:ext cx="504720" cy="504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539640" y="2690640"/>
            <a:ext cx="4318200" cy="3454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33360" y="1332000"/>
            <a:ext cx="626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3. 1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번 항목 완료시 다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번 항목에서 새바코드 글꼴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두번째 바코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ode128C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등록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565920" y="781200"/>
            <a:ext cx="1990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드라이버 속성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260280" y="1763640"/>
            <a:ext cx="6453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글꼴 이름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ode128C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여러 줄 조인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체크가 해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되있어야 하며 인코딩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서유럽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(ANSI 125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너비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더욱 좁게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맞춰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주의 사항 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글꼴 이름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(N)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에서 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Code128C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로 설정하되 대소문자를 화면과 같이 똑같이 구분해줘야 하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띄어쓰기는 없게 설정하셔야 합니다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1374840" y="3022560"/>
            <a:ext cx="3303360" cy="4730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1628640" y="3724200"/>
            <a:ext cx="3075120" cy="709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709560" y="4687920"/>
            <a:ext cx="1209600" cy="5382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4923000" y="3562200"/>
            <a:ext cx="180648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호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ode 128C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맞추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크기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0.37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밀리미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방향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0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판독가능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없음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으로 맞춰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724280" y="3851280"/>
            <a:ext cx="217440" cy="71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92280" y="6227640"/>
            <a:ext cx="26654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UCC/EAN – 128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체크가 해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되어야 하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코드셋은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맞춰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268280" y="5219280"/>
            <a:ext cx="0" cy="1079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1052640" y="2482920"/>
            <a:ext cx="504720" cy="504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>
            <a:off x="333360" y="6991200"/>
            <a:ext cx="626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4. 13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번 항목 등록 완료시 확인을 누르고 드라이버 속성 설정을 마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2089080" y="5796000"/>
            <a:ext cx="936720" cy="28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856080" y="1600200"/>
            <a:ext cx="48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. Zebra Printer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설정 방법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1604160" y="3319560"/>
            <a:ext cx="26971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인쇄방식 설정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인쇄 농도 설정 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인쇄속도 설정 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좌우 위치 설정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97880" y="781200"/>
            <a:ext cx="17776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인쇄 방식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89000" y="1258920"/>
            <a:ext cx="2444760" cy="71326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508640" y="3564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2747880" y="2736720"/>
            <a:ext cx="41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위에 있는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gt;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오른쪽 방향키 또는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lt;“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왼쪽 방향키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HERMAL-TRANS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RECT THERMAL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인쇄방식이 변경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2732040" y="3995640"/>
            <a:ext cx="412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DIRECT THERMAL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변경한 다음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RTUP/EXIT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르고 바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/SAVE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눌러 주면 인쇄 방식이 저장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2732040" y="1476360"/>
            <a:ext cx="412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SETUP/EXIT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르고 나서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/SAVE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여러 번 누르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와 같은 메뉴가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3770280" y="1936800"/>
            <a:ext cx="1724040" cy="6760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2708280" y="3276720"/>
            <a:ext cx="1724040" cy="676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5013360" y="3276720"/>
            <a:ext cx="1704960" cy="657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898520" y="3535200"/>
            <a:ext cx="19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RECT THERMAL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4680" y="781200"/>
            <a:ext cx="19756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외부 명칭 및 기능 설명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28760" y="1908000"/>
            <a:ext cx="4205160" cy="3143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95520" y="168588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803240" y="1552680"/>
            <a:ext cx="65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외장커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244520" y="28400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85560" y="270684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LCD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표시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10040" y="262368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625640" y="2479680"/>
            <a:ext cx="87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공급 허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456732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4678920" y="5000760"/>
            <a:ext cx="112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공급슬롯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하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90760" y="211932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744800" y="1974960"/>
            <a:ext cx="87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리본 공급 허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57680" y="1758600"/>
            <a:ext cx="1657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4755600" y="1616040"/>
            <a:ext cx="95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리본 되감기 허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357720" y="2987640"/>
            <a:ext cx="1655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96960" y="2843280"/>
            <a:ext cx="95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고정 가이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341360" y="3276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277200" y="3713040"/>
            <a:ext cx="95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 오픈 손잡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41360" y="3132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53440" y="3276720"/>
            <a:ext cx="98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 압력  스프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96960" y="5699160"/>
            <a:ext cx="5528880" cy="27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외장커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린터의 커버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PEN,CLOSE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할 수 있으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평상 시에는 닫아 주시길 바랍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LCD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표시부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현재 프린터의 상태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D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화면으로 보여줍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평상시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inter Read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표시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 압력 스프링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의 압력을 주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인쇄의 좌우 품질이 상이 할 경우 헤드의 압력 및 위치를 조정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헤드 오픈 손잡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표지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갈아 끼울 때 헤드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PEN,CLOSE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리본 공급 허브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리본을 사용 할 경우 리본을 공급 해주는 장치 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리본 되감기 허브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리본을 사용 할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인쇄 하고 사용한 리본을 되감아 주는 장치 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공급 허브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용 할 라벨을 걸거나 고정 시키는 장치 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고정 가이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을 투입 후 라벨이 고정 될 수 있도록 고정하는 장치 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벨 공급 슬롯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하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걸이 식 라벨이 아니면서 하단에서 라벨을 공급 할 경우 이곳으로 라벨을 투입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97880" y="781200"/>
            <a:ext cx="17776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인쇄 농도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89000" y="1258920"/>
            <a:ext cx="2444760" cy="71326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732040" y="1663560"/>
            <a:ext cx="412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SETUP/EXIT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르면 화면에 아래와 같은 그림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4508640" y="3564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849840" y="1947960"/>
            <a:ext cx="1581120" cy="628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593960" y="2044800"/>
            <a:ext cx="107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747880" y="2736720"/>
            <a:ext cx="41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위에 있는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gt;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오른쪽 방향키를 누르면 수치가 증가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lt;“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왼쪽 방향키를 누르면 수치가 감소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수치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5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까지 올려 주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2851200" y="3276720"/>
            <a:ext cx="1581120" cy="6285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595320" y="3373560"/>
            <a:ext cx="107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5013360" y="3276720"/>
            <a:ext cx="1581120" cy="6285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5758200" y="3373560"/>
            <a:ext cx="114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5.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2732040" y="3995640"/>
            <a:ext cx="412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25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까지 수치를 올린 다음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RTUP/EXIT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르고 바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/SAVE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눌러 주면 인쇄 농도가 저장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97880" y="781200"/>
            <a:ext cx="17776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인쇄 속도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89000" y="1258920"/>
            <a:ext cx="2444760" cy="71326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732040" y="1663560"/>
            <a:ext cx="412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SETUP/EXIT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르고 나서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/SAVE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몇 번 누르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와 같은 메뉴가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4508640" y="3564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2747880" y="2736720"/>
            <a:ext cx="41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위에 있는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gt;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오른쪽 방향키를 누르면 수치가 증가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lt;“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왼쪽 방향키를 누르면 수치가 감소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수치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8 IPS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까지 올려 주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2732040" y="3995640"/>
            <a:ext cx="412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7 IPS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까지 수치를 올린 다음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RTUP/EXIT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르고 바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/SAVE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눌러 주면 인쇄 속도가 저장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3645000" y="2050920"/>
            <a:ext cx="1714320" cy="6955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684520" y="3276720"/>
            <a:ext cx="1714320" cy="6951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013360" y="3276720"/>
            <a:ext cx="1676520" cy="66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855320" y="3544920"/>
            <a:ext cx="9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572400" y="781200"/>
            <a:ext cx="20365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좌우 인쇄위치  설정하기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89000" y="1258920"/>
            <a:ext cx="2444760" cy="71326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732040" y="1663560"/>
            <a:ext cx="412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SETUP/EXIT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르고 나서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/SAVE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여러 번 누르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와 같은 메뉴가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>
            <a:off x="4479840" y="3564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>
            <a:off x="2747880" y="2736720"/>
            <a:ext cx="41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여기에서 위에 있는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gt;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오른쪽 방향키를 누르면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_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 이동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lt;“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왼쪽 방향키를 누르면 수치가 증가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수치를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+0008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 해주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>
            <a:off x="2732040" y="3995640"/>
            <a:ext cx="412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+0008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로 수치를 올린 다음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RTUP/EXIT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르고 바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/SAVE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눌러 주면 인쇄 속도가 저장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773520" y="2050920"/>
            <a:ext cx="1695240" cy="6667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2679840" y="3276720"/>
            <a:ext cx="169524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4984920" y="3276720"/>
            <a:ext cx="1695240" cy="6667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5566320" y="3544920"/>
            <a:ext cx="9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8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>
            <a:off x="3266280" y="354024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4355280" y="231156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279440" y="1652760"/>
            <a:ext cx="41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6. Zebra Ocx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등록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1642320" y="3319560"/>
            <a:ext cx="38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준비 파일 목록 및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OCX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설치 전 설정 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. OCX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설치 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536760" y="781200"/>
            <a:ext cx="25268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준비 파일  및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OCX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설치 전 설정 하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404640" y="1187280"/>
            <a:ext cx="6264360" cy="74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OCX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설치하기 위해선 다음 두가지 파일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( xgipyo.html, xgipyo.cap 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 준비 되어야 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이 준비 되었다면 다음 경로에서 이전에 설치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CX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을 삭제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존 설치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CX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 경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:\WINDOWS\Downloads Program Files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주의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기존 설치된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OCX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파일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xgipyo.cap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을 삭제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위해서는 우편물류 시스템 웹 브라우저 창을 닫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주셔야 삭제가 됩니다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07920" y="2062080"/>
            <a:ext cx="4965840" cy="51022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 flipH="1">
            <a:off x="3789000" y="1692360"/>
            <a:ext cx="647640" cy="5256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491920" y="1835280"/>
            <a:ext cx="1513080" cy="504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33360" y="1187280"/>
            <a:ext cx="6524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준비된 두가지 파일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( xgipyo.html, xgipyo.cap 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복사 하기 위한 경로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복사할 경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:\eKPLS_install\down\cabfiles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  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주의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기존 장비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(DataMax)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에 쓰였던 같은 파일명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( xgipyo.cap )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을 유사시를 대비해  복사해서 보관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           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두고 해당 경로에서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xhipyo.cap 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파일을 삭제 하시길 바랍니다</a:t>
            </a:r>
            <a:r>
              <a:rPr b="1" lang="ko-KR" sz="1000" spc="-1" strike="noStrike">
                <a:solidFill>
                  <a:srgbClr val="ff0000"/>
                </a:solidFill>
                <a:latin typeface="굴림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음 준비된 두가지 파일 중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xgipyo.cap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해당 경로에 복사하여 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xgipyo.html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은 기존에 설치되있던 파일로 쓰셔도 무방하지만 해당 경로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xgipyo.htm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이 없다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xgipyo.cap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과 같이 해당경로에 복사하여 주세요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>
            <a:off x="255600" y="781200"/>
            <a:ext cx="1314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OCX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설치 하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49360" y="2795760"/>
            <a:ext cx="3257640" cy="53766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 flipH="1">
            <a:off x="3429000" y="2340000"/>
            <a:ext cx="1440000" cy="5616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55600" y="781200"/>
            <a:ext cx="1314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OCX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설치 하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>
            <a:off x="333360" y="1187280"/>
            <a:ext cx="6524640" cy="73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준비 파일을 해당 경로에 복사해 두셨다면 다음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xgipyo.htm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더블 클릭해 실행하면 다음과 같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화면이 나오고 해당 게이지가 올라가 완료 메시지가 보이면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CX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설치는 완료 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음은 설치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CX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을 확인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번 항목에서 삭제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Xgipyo Control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파일이 제대로 설치 됐는지는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만든 날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006-11-17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확인하시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설치된 경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:\WINDOWS\Downloads Program Files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주의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만든 날짜가 다를 경우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번항목의 주의점을 제외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1~4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까지 새로 진행하세요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16000" y="5867280"/>
            <a:ext cx="6526080" cy="9367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022800" y="6443640"/>
            <a:ext cx="574920" cy="216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5502240"/>
            <a:ext cx="142920" cy="1008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5589720" y="5508720"/>
            <a:ext cx="647640" cy="934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836640" y="1692360"/>
            <a:ext cx="4032360" cy="3186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989000" y="1547640"/>
            <a:ext cx="1008360" cy="324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196640" y="1547640"/>
            <a:ext cx="1655640" cy="3168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304640" y="1652760"/>
            <a:ext cx="44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우편물류 통합 정보 시스템에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Zebra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프린터 장비 등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595520" y="3492360"/>
            <a:ext cx="311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로그인 화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우편 물류 통합 정보 시스템 상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Zebra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장비 등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552600" y="781200"/>
            <a:ext cx="18842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우편 물류 시스템 로그인 화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22280" y="1792440"/>
            <a:ext cx="5886360" cy="37875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39760" y="1332000"/>
            <a:ext cx="63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우편 물류시스템 로그인 화면에서 사용자 계정으로 접속 하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39760" y="1332000"/>
            <a:ext cx="635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그인 후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통합 접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메뉴로 들어가 하위 메뉴인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창구정보 관리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들어가면 다음 화면과 같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창구 정보 설정에 관한 정보를 볼수 있고 장비 등록을 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통합접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&gt;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&gt;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창구정보 관리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69880" y="1941480"/>
            <a:ext cx="5523120" cy="47181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981000" y="1692360"/>
            <a:ext cx="1152720" cy="1511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557360" y="1547640"/>
            <a:ext cx="2303280" cy="3311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1557360" y="1547640"/>
            <a:ext cx="2303280" cy="1440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847080" y="781200"/>
            <a:ext cx="3668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우편 물류 통합 정보 시스템 상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Zebra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장비 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6640" y="1100160"/>
            <a:ext cx="5292720" cy="5999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3360" y="781200"/>
            <a:ext cx="23806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ATA ,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전원 케이블 접속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82640" y="7535880"/>
            <a:ext cx="47970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린터는 기본적으로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USB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케이블이 제공되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본 케이블을 이용하여 기표지를 발행 하시면 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PC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는 일반적으로 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USB001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USB002”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표시 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USB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케이블로 인쇄가 되지 않을 경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병렬 데이터 케이블을 이용하여도 발행이 가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 발행 속도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USB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방식 보다는 늦어질 수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239760" y="1332000"/>
            <a:ext cx="63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장비구분에서 화면과 같이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라벨프린터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(DataMax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선택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57200" y="1951200"/>
            <a:ext cx="6048360" cy="42861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flipH="1">
            <a:off x="2492280" y="1547640"/>
            <a:ext cx="649440" cy="3672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>
            <a:off x="847080" y="781200"/>
            <a:ext cx="3668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우편 물류 통합 정보 시스템 상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Zebra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장비 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847080" y="781200"/>
            <a:ext cx="3668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우편 물류 통합 정보 시스템 상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Zebra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프린터 장비 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239760" y="1332000"/>
            <a:ext cx="63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장비 등록시 모델명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Zebra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맞추고 저장 후 닫기 버튼을 누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19040" y="1835280"/>
            <a:ext cx="6021360" cy="4267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H="1">
            <a:off x="1628280" y="1547640"/>
            <a:ext cx="287640" cy="2880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3068640" y="1547640"/>
            <a:ext cx="2448000" cy="4176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189000" y="6415200"/>
            <a:ext cx="63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닫기 버튼과 동시에 모든 설정이 끝나게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3360" y="1247760"/>
            <a:ext cx="2444760" cy="713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4680" y="781200"/>
            <a:ext cx="3079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. LCD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표시부 설명 및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EY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설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기본 사용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732040" y="2917800"/>
            <a:ext cx="4125960" cy="46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PRINTER READY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일반적으로 프린터가 정상적인 상태로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인쇄 태기 상태 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상태에서는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OWER LED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만 점등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PAUSE : 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의 상태에서 본 버튼을 누르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AUSE LED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주황색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D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 켜지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한번 더 누르면 해제가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또한 인쇄 중 누르게 되며 인쇄를 잠시 멈추게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FEED : 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의 상태에서 용지가 올바르게 설치가 되어 있고 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키를 누르면 라벨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장 배출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CANCEL : DATA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잘 못 보내거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보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TA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취소 시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경우 본 버튼을 누르게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취소를 할 경우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AUSE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버튼을 누르고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LE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 되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DATA LED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불이 꺼질 때 까지 버튼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CALIBRA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기본적으로 본 장비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UTO CALIBRAT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지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하여 라벨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장씩 감지를 하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만약 라벨 감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원할 하게 되지 않는 경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PAUSE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른 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본 버튼을 누르게 되면 수동으로 라벨 인식 작업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할 수 있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060640" y="2195640"/>
            <a:ext cx="1224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36640" y="4140000"/>
            <a:ext cx="223200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484280" y="5003280"/>
            <a:ext cx="1584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65000" y="5795640"/>
            <a:ext cx="2232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84280" y="6876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3360" y="1247760"/>
            <a:ext cx="2444760" cy="7132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1680" y="781200"/>
            <a:ext cx="34138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. LCD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표시부 설명 및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EY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설명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SETUP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사용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732040" y="1679400"/>
            <a:ext cx="41259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SETUP/EXIT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프린터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메뉴로 들어갈 경우 본 키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누르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메뉴모드로 진입하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화면에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처음 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RKNISS”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라고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시 처음 상태로 돌아갈 경우 본 키와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EXT/SA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을 누르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. NEXT/SAVE : 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의 버튼을 누르고 나서 메뉴모드로 진입하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본 버튼을 누르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음 메뉴로 변경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. PREVIOUS : 2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번의 키를 눌러 다음 메뉴로 이동이 된 다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 단계로 이동 할 경우 사용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. RIGHT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선택된 메뉴의 값을 증가 시키거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변경 할 시 본 키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용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. LEFT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선택된 메뉴의 값을 감소 시키거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변경 할 시 본 키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사용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65600" y="2517840"/>
            <a:ext cx="1895400" cy="73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805120" y="3586320"/>
            <a:ext cx="1487520" cy="814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14760" y="38847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84640" y="3614760"/>
            <a:ext cx="1571760" cy="763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094360" y="4786200"/>
            <a:ext cx="1487520" cy="814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21240" y="51195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2852640" y="4805280"/>
            <a:ext cx="1571760" cy="76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2852640" y="6064200"/>
            <a:ext cx="1487520" cy="814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27720" y="64245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5122800" y="6064200"/>
            <a:ext cx="1581120" cy="7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2852640" y="7265880"/>
            <a:ext cx="1581120" cy="792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86320" y="764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5157720" y="7261200"/>
            <a:ext cx="1487520" cy="814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2133720" y="1908000"/>
            <a:ext cx="100800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57360" y="3347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907920" y="3492360"/>
            <a:ext cx="18734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060640" y="2916360"/>
            <a:ext cx="72072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907920" y="2916360"/>
            <a:ext cx="187344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1200" y="781200"/>
            <a:ext cx="19058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. SELF TEST MODE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962640" y="1415880"/>
            <a:ext cx="644364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. CANCLE KEY SELT TEST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본 테스트는 장비의 전원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FF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후 전면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 KEY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를 누른 상태에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전원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시키고 약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~ 7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초간 누르고 있으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아래 그림과 같이 장비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TUP LIST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발행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 테스트는 장비가 현재 가지고 있는 설정 값을 볼 수가 있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14640" y="2327400"/>
            <a:ext cx="25336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1:17:27Z</dcterms:created>
  <dc:creator>최민수</dc:creator>
  <dc:description/>
  <dc:language>en-US</dc:language>
  <cp:lastModifiedBy>KJM</cp:lastModifiedBy>
  <dcterms:modified xsi:type="dcterms:W3CDTF">2007-10-31T07:53:51Z</dcterms:modified>
  <cp:revision>243</cp:revision>
  <dc:subject/>
  <dc:title>슬라이드 1</dc:title>
</cp:coreProperties>
</file>